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B92-C157-4957-A6D0-57925194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436C-6F28-4CCF-8118-7F403B1B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9A4B4-AA11-4C14-830A-DE71E392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26C35-4D0F-4953-AE9F-30BDBCD8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3F611-6F7B-4DE6-B6AE-DE07D49E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32A6D-51C1-4CFE-A704-B3755F72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B0E69-5C8A-42EF-875B-62255E68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B112F-F2C8-40C0-B437-F2EF8A98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79CB5-5D1B-45C3-84EC-31678D2D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E7B1E-9DA0-41B7-B3E1-7B710B8D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A5F4C-402D-4D60-9F5A-227949A9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DF3B0-5EEA-41BF-AA5C-07BC77A9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19D-B76E-40C4-BCA9-813D1349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CB8DB-F58B-4FE6-BE05-964FB252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847DD-CD52-4B48-9C8D-8FAC6C0A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5F79B-CA0C-49D5-9945-092B4B31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83449-0F9C-41D5-B529-C77B5DC9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C8E26-217C-4849-A975-9A45E07C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0A897-7861-4C0B-9538-AF0C5F34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A8540-7C6F-4064-8827-948DF007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86D5F-D824-4162-B3B0-E5A32A75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DA161-D8E3-4E52-978B-66F9718D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7AF66-5D3C-4871-B3F6-7158DCF7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23C-278D-46E5-9D1B-661C23C9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2E570-45D0-497C-8F52-055EC682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E1EBF-69FB-4C7D-A077-78769DE5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84E24-9120-4F27-BDCF-89DBC4A7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0D8D3-A8A3-4453-8203-10424C1C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52C19-2AF7-43A5-90FE-A9DA7488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7C170-6B28-4290-BEA9-D6E2EB2B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F0DC9-B860-46C0-909A-07D3502C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ED37B-7D3A-49DF-9987-32C1D577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BBD6F-FAB8-4395-BB09-80E3304F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27ED6-730D-4AD8-8E38-F0542A19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6538-5825-43BB-B607-88B09AE8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F708A-76A1-4B79-BC39-C3DAB040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43564-888F-4193-BD43-1558E705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D5E12-520C-4667-BB70-A2AD7ADD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724E5-8917-4C5A-A85D-7D57B482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A4649-0062-46B5-8CA0-B7D51278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247FA-1BFA-41EE-9F15-01AC8DCC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A5065-F2D2-495E-968B-198302CF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F1A67-1AA8-406E-9C95-C75D4760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AA0CB-052F-4CBC-A3D1-175BCBF7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3F299-1691-425A-AB87-6C5BBE40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7769-D68F-4DC1-B33C-209942D2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C4004-151E-4886-8CB2-0524EF47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EB1E4-59A9-4DB1-B026-FC9312CE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2BC85-AB32-44DD-AC21-70F00F78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30097-EB12-4EB0-AD3A-9DA2B1B9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23032-9C31-4A9D-87E1-2BE3EC5B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48528-2D3A-45F2-BEFB-27FC2205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CDF1F-E6B1-47F8-BEFF-5A62D728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B15DD-D41E-4FB2-9EA7-3D97CF95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2A728-A850-48CB-8941-53B5E9F3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0A806-B31E-48E9-8AF9-F7A20C8A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4D84-BA15-4EE6-B627-13B6BD9C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6630C-D41E-426D-86B0-D1F71434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46B8C-731E-4935-95C6-7A74A4B2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C6C76-DC85-4E14-938E-F54B807C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4DD4B-22E2-4136-93C1-23D0E315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B1248-A6EE-41D0-A405-B609C678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FFEF97-4F23-4067-94EC-AD9B5CD8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F49831-F0B5-4AA3-8E98-3F195F71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57E54E-7221-4154-A746-C132464E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38A624-C417-436F-BC2B-B8735628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04C54B-A177-42A0-8FCE-75FBFA77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58CD-A9B7-4EBD-9A2A-B1A7C55F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324CAB-14AD-433D-BE80-9C0F2414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E51CFF-084B-42EF-BC13-009CB242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EF765-CBF4-4563-A87E-769A5838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435F7-0FB9-4AE0-A592-A50C81C8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7D6AE9-AA8D-4561-9457-BEAD3EAC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C28E1D-B775-4782-96CE-0D470C3E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40F95-E2E9-4FB9-ACDE-4EA34F8C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56B0B-01AA-4A34-BCA7-33DD2C41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F5B4B-7C32-407B-9083-1D3D81A2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BF41B-1049-4DAF-83CD-C116C18E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2922-70FB-46CB-90D1-9FF46B5F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677AF9-85AF-4BAD-874D-F570ADF3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C10AEB-2944-4F12-BB26-F7EDB3D7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2F946-EAFB-4401-943C-FEB601B9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F01BA5-F0E5-4C17-98C7-889231D8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58AF39-6692-49B2-A957-E2C5020A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23E90-7CE6-4170-BEF2-2C6BD811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87DBC-4255-4C31-89EB-15867B4C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2BFA1B-9161-44CA-826E-5FBA7BA8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357B68-FA09-4C48-BDB9-386A35B5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064CC1-25A1-45B8-9D3B-7494F9A5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7897-9A8C-4A9C-AD14-E8071CAA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61546-BDEA-4CD0-8BBE-5E101CB2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7B680E-CAC8-43BC-9F09-09344AFC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27406C-A6CF-4836-BFC0-26B93499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50EE45-0D00-460B-A85D-E0709764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426A31-88C5-48DF-A8A0-219C1DBA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737A45-6DB9-4E93-8A5A-D56ED40A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CC7E0-011F-41CE-8A14-2821CFF5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11F874-F1A5-4D25-B094-651AEE1C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3D6976-F7FD-4A72-826D-AB00A0DD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64C14E-2995-4788-9772-80247D63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0E3F-52CC-4D75-8AFE-67AC59DF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55098-F73D-49E0-9B17-DF1E7920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DE2577-3DD4-4FE9-854D-AA5CCE9E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E3772-BB94-4E0C-9A09-000E81F4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169783-887D-4AD5-9B75-C6708635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B3B5F-8795-421B-92CA-E2811E3D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78560-EE34-4CA4-B79D-A8CD1712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1AC742-3FD3-4E94-B39F-CEB0F08B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4DDED2-84F9-4F74-B20B-77D7ACAF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7E3A4E-05D1-433D-BDFC-12E31F54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027B0-95E1-486D-8FD5-FEF0563E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9AE-7BA1-45EC-BD25-08E522D6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3CC6-D2A9-4F0A-BE8E-34EF7DFD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1205E4-DA9F-4AA1-BB21-1CAE32A4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7679DC-3EB5-4A34-9BD8-8B5A67FB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2C9BEF-1059-49AF-8BDE-7EFD4D43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827EE-0550-43A1-832B-8D06195D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5CF50-6209-49BC-9E62-DAC2CAAC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1D04B5-F9D2-470C-8E7C-8BFE9CE8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A6AC61-9133-43DE-A15A-FBEA5F92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2EB98E-873E-47E0-AA29-72FE6E30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5E6640-36E2-44BB-B948-DCA03DDF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E0414A-3828-4028-9896-D793BB3D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4965-BC7D-4673-9039-8C5F0EBC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EC1C98-8354-4603-91C7-203990AB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73AE9F-A4B2-4614-B73C-53F0BFA4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BFD60-735E-410E-964A-E9B9813C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58CD09-6241-4AD6-92EE-EF183EF6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15333A-71CB-4AC8-8F0A-CDAD8737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EF283A-0C83-447D-B66D-7CD61573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0A6CB-6034-482B-8E7C-7D1F7002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0045CD-8558-4C80-9661-0F142738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0ED30E-6010-42AD-B216-C667486D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8BB92C-DF43-462A-8A77-4CE5DE58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B8B4-09A5-4BEF-8B51-6D07335C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F2A0F4-5AC0-48BE-8F61-3F5DA1D2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75C91A-9FE4-42DB-B452-B0507611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9286F-CE01-4405-951F-234D7CA4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E61942-1A02-4FEA-86CB-B27DE5BF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ED059A-D649-4142-9A70-3E8B1058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6A685A-F834-452E-B32E-E05334DB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F52212-2B99-4429-8A69-8459AC1F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895D49-AD0B-4E4A-A5FD-DCC983CD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6C2C64-9F8C-4225-9083-BD983F77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5B1894-A43C-4A4D-85FC-27AA8AAB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05AA-363E-461B-BCBB-376BC539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631841-D1C8-46FF-8015-CB2A7EBF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E4C5C-0520-431D-B5CD-EE95B20A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32E856-BBAE-47A4-B202-CE862DB8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AC08BF-51E8-47EF-B83D-BF6F1BFD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6DA62D-2E24-476F-90A9-22991268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D7F73B-0430-4AA2-AC5A-0BDA904F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55773C-8331-4E33-8E56-7C4EA3A7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41E85E-9DC6-479E-8909-2EA4453A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0C639B-7BBB-41F3-A909-E5405951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CB605F-7F31-4A8A-9602-876D6D5B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D117-68A9-477B-B9B5-105D737E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FE0CC5-60C2-4388-939F-0771D925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744050-DBA1-4459-AA1F-8453E47A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C5199C-13EC-4FB2-BA49-C971D1DF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4E6040-4166-491F-A598-2E71C1BA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0FE00E-71A9-4B73-9008-C08E0728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FA6597-0C4C-402F-8374-86773D90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75CA90-07BB-4E7C-9622-24065D3D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9C0D0F-4CF9-4803-8AD2-7BB0B529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8A5E7F-4951-4738-A3B5-971D527C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AAC5D8-FBA4-4A83-AA4D-377294B7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D6E3D-5682-4184-910D-5892864E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7EAA43-3F73-485E-9A62-EB41C15A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1D2785-CC25-4B2B-B754-B93DB474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89A94D-5D70-45E8-8086-CA82BC14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8DB39-5648-4C51-A3F8-FD957F40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9523F-5F13-4F78-AD87-04C0E41A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330F1-92BF-4B8B-B30C-E17DD8C3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A848E-2679-4FC4-ACD2-78036AEF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578-46A6-4907-98D1-444E570C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B7590-2DB3-4A8F-A937-DC4372BF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EA48A-A46D-4883-8E4F-CD7D74AA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8A487-D2FF-4A4A-ABF3-1D786A67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FDA34-7938-47D5-8229-A49C368D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0D8E5-8820-4EEA-A831-9A8355E1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B5D4D-1464-47B5-B3FB-EB77F78A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7B541-8A95-431A-AF72-AD87C184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18D70-0A17-408E-9E59-008F1889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A04C5-2093-437F-A18D-32C96C7F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A5F68-D7D9-4DD7-9D86-4FDC026B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A148-8071-489F-A3C7-B3D5F5A1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E8BC3-6BFD-4BF4-985E-4814F78F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6E5B1-ABB6-4EEB-8F39-B8F46C80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30630-54DF-4866-8CAC-51F81C94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4CB7C-F4A3-422D-90D5-D2341C70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CAD01-DF9F-42A7-9758-CC916F2D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6D5CB-7277-4918-A033-2EA6061E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83E91-FA66-45E4-B1D5-8EF136F0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5A3B5-03BA-4EB8-9E0C-645EA758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7B240-9E5A-416D-8EDE-3FA70125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AC613-032C-4D07-A2D5-70AA0378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4E0-C8D3-4254-B5E7-45A1195A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BCE7A-5C65-443C-BE48-47CD5BDF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4F50D-9A65-4666-85DB-F4A46D81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37ECB-2C88-4B48-A2E2-F9A20811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8C000-6446-4420-A02A-8DF86069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5428B-D979-4FD9-9E0C-1C57D89E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3C0EE-D101-4AAB-8117-951B06AA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4476B-797D-42F7-8E5F-C82C70D6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8AF9B-216E-4B5D-B0C6-DFCDD321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E753E-0145-4D0A-A477-98F8190E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87668-6B7B-477B-9758-FE168FA4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B73-0E7B-440D-B015-57DD4D8F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DB83D-691A-4906-8679-B086343D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4034C-D95E-48AA-A117-4FC67F0D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848C5-8667-4C7C-B3C4-2978C529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A2818-3EF1-4784-9D6F-6E450224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85922-6262-4203-B8C5-74E96592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81E37-11A1-45B3-9E8E-51553CD0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DC3B7-6789-425C-B383-56EAEF86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1147E-5B6A-4A19-A5B7-9FEFAB83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BBC34-DA84-4BEF-8BC7-8EF9129A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77E5F-8B23-41EA-8A16-B3B60826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607-B846-466E-ACEC-F38D588F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69949-B705-4478-8B1C-2BE7E7C1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67453-0E59-480B-A6F5-D49F296E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E6BA9-B565-4B52-B1A6-AFD1B3C8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C6A7D-C349-4A0D-B519-5B7DC9B5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31B7A-55D0-4AD9-9B4C-3B8914D3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0C877-69C2-49D8-942A-1191EA66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F473A-4CD4-40FC-AC60-54D0977B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7118B-8F55-4B29-927E-D99FFEA7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5CD1A-CEE5-44A5-B85C-27424252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05F51-CB54-4AEE-8646-A3291ABB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08E-B414-424E-9D9E-4A97B506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AF6FF-0D08-44F0-90E8-C609C3E0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937E8-C8F1-45DF-BA29-AD77FF85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9D832-BE2E-4170-97E8-B233C5EF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82098-5334-4323-975D-CC72035C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262C7-0D4F-4E2E-9B34-508932B1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FCDC3-46E6-4806-8A5C-8C63BC5C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34808-AD20-407B-8B78-CA3D7527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3B502-FDE2-44D2-923B-9E187D08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05CC4-2DCA-4616-8E52-AF16184B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F8D8C-BF79-47F9-A269-45D2FCC6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6B58-FC20-4876-A213-B1B09F68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3E167-22F2-407B-A824-BAF30191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CFAC4-9CCE-4763-9ADA-FE2070A8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C2810-E4CA-4F33-B7BA-9944D0F5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790D5-956B-444F-BFFF-86D90158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3A068-9448-496B-9E53-A504C2CA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D42A5-5227-4F9B-B9A7-844133B9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8F5C1-D5A7-48BF-8707-AAC06044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095B9-1516-4D48-9EE5-191BF179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1B586-FE36-4800-84AD-2845E6A9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81200-4491-4603-8D25-482B57D4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9DB7-8889-45F1-BB0F-89C4A7AE01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53BF-AEEA-4B4F-A7C5-AD7ECEC63C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5FE5-AF1E-4026-B496-F63F156A5C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DFF6-430D-4DFA-B94D-EABC4640F2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12FC-6742-40C8-A01A-5F6D6BB3E7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AB21-1093-42C2-9100-04D55074E8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1FA6-F205-4436-83D3-F4390257FD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0AF6-A573-4E5F-883C-EFAC5F7E60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DDC5-873B-49AD-83C9-661978A378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E673-D85D-4B68-B494-44F322197B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5D04-A70B-4C5B-86C8-3CC7B2527A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5100-DA59-48C3-9010-1A96A5D637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45E3-85B1-42A5-8986-F7BD5B7034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8422-F42B-4855-9402-26559FFE6F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8B47-2B40-4F3E-A7BA-AC2D1B9B9D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5452-8EFA-4B29-BF03-E430555FAA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46D0-094D-4B39-961F-D422812878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51F5-027D-4A47-88FE-8D6465C827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CB0E-1CEC-4F58-82FC-6555F46A72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FB80-85BC-4CA2-9CC3-6B5B64D280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B7AA-2A99-416E-8EAF-9B0DB1E84D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C8A5-9DAC-417D-A1AD-22F96CD3E3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8181-6075-4D2D-B2E8-46BB518BEA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BD3A-7CFD-462A-B98B-664555CF31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1ABE-A395-4FE8-907A-4BEEBCE2D3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7666-EFB6-4D4A-9F7F-D49ACD8B84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A0E0-AB2A-40B0-A2C7-9E76044D8F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3676-82C6-4B3D-BFB1-14C3C865B9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F372-BC62-48E0-9D49-93480F632E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FB3D-27AA-4A43-AEFE-A84EE65B3A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301B-D034-468A-A73D-653AA1E8BE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C1B9-3D27-473B-8123-9A1C924F27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8771-6AAB-482D-B370-1F46E465BB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7BE5-FD87-4BD7-B3C7-99FE5F8A07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816E-A92F-4E2B-BF74-5969AC31EC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8FB2-6083-4A6A-8C8D-5F86263FE5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A1FC-013D-4D09-9E02-D0FF77831D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EF4B-EDDD-44C7-8A02-F97CB86F49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35CE-B7B6-4E31-8171-6BF47DD5F8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2726-9EFA-40F1-BF7F-87B16A34EE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85800" y="3157560"/>
            <a:ext cx="59724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09520" y="1090440"/>
            <a:ext cx="8724960" cy="46771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576440" y="2421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449440" y="24112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图片 60432" descr=""/>
          <p:cNvPicPr/>
          <p:nvPr/>
        </p:nvPicPr>
        <p:blipFill>
          <a:blip r:embed="rId4"/>
          <a:stretch/>
        </p:blipFill>
        <p:spPr>
          <a:xfrm>
            <a:off x="654120" y="2814480"/>
            <a:ext cx="1438200" cy="1657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419640" y="3141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931000" y="23972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794640" y="24019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60436" descr=""/>
          <p:cNvPicPr/>
          <p:nvPr/>
        </p:nvPicPr>
        <p:blipFill>
          <a:blip r:embed="rId8"/>
          <a:stretch/>
        </p:blipFill>
        <p:spPr>
          <a:xfrm>
            <a:off x="5021280" y="2867040"/>
            <a:ext cx="1390680" cy="15717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740720" y="31510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60438" descr=""/>
          <p:cNvPicPr/>
          <p:nvPr/>
        </p:nvPicPr>
        <p:blipFill>
          <a:blip r:embed="rId10"/>
          <a:stretch/>
        </p:blipFill>
        <p:spPr>
          <a:xfrm>
            <a:off x="912960" y="5205240"/>
            <a:ext cx="904680" cy="5241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60439" descr=""/>
          <p:cNvPicPr/>
          <p:nvPr/>
        </p:nvPicPr>
        <p:blipFill>
          <a:blip r:embed="rId11"/>
          <a:stretch/>
        </p:blipFill>
        <p:spPr>
          <a:xfrm>
            <a:off x="2786040" y="5157720"/>
            <a:ext cx="876240" cy="62856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60440" descr=""/>
          <p:cNvPicPr/>
          <p:nvPr/>
        </p:nvPicPr>
        <p:blipFill>
          <a:blip r:embed="rId12"/>
          <a:stretch/>
        </p:blipFill>
        <p:spPr>
          <a:xfrm>
            <a:off x="4408560" y="5157720"/>
            <a:ext cx="895320" cy="71460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60441" descr=""/>
          <p:cNvPicPr/>
          <p:nvPr/>
        </p:nvPicPr>
        <p:blipFill>
          <a:blip r:embed="rId13"/>
          <a:stretch/>
        </p:blipFill>
        <p:spPr>
          <a:xfrm>
            <a:off x="6010200" y="5119560"/>
            <a:ext cx="905040" cy="70488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60442" descr=""/>
          <p:cNvPicPr/>
          <p:nvPr/>
        </p:nvPicPr>
        <p:blipFill>
          <a:blip r:embed="rId14"/>
          <a:stretch/>
        </p:blipFill>
        <p:spPr>
          <a:xfrm>
            <a:off x="7547040" y="5138640"/>
            <a:ext cx="9716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9410" descr=""/>
          <p:cNvPicPr/>
          <p:nvPr/>
        </p:nvPicPr>
        <p:blipFill>
          <a:blip r:embed="rId1"/>
          <a:stretch/>
        </p:blipFill>
        <p:spPr>
          <a:xfrm>
            <a:off x="361800" y="1228680"/>
            <a:ext cx="8420400" cy="44006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1628640" y="1700280"/>
            <a:ext cx="92736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3021120" y="210816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3749760" y="1693800"/>
            <a:ext cx="92700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5119560" y="2133720"/>
            <a:ext cx="1368720" cy="10270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5848200" y="1719360"/>
            <a:ext cx="92736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8"/>
          <a:stretch/>
        </p:blipFill>
        <p:spPr>
          <a:xfrm>
            <a:off x="723600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9"/>
          <a:stretch/>
        </p:blipFill>
        <p:spPr>
          <a:xfrm>
            <a:off x="7964640" y="1719360"/>
            <a:ext cx="92700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0"/>
          <a:stretch/>
        </p:blipFill>
        <p:spPr>
          <a:xfrm>
            <a:off x="2843280" y="4130640"/>
            <a:ext cx="180000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1"/>
          <a:stretch/>
        </p:blipFill>
        <p:spPr>
          <a:xfrm>
            <a:off x="2916360" y="4518000"/>
            <a:ext cx="180000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2"/>
          <a:stretch/>
        </p:blipFill>
        <p:spPr>
          <a:xfrm>
            <a:off x="2852640" y="4923000"/>
            <a:ext cx="72072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3"/>
          <a:stretch/>
        </p:blipFill>
        <p:spPr>
          <a:xfrm>
            <a:off x="2916360" y="5310360"/>
            <a:ext cx="11509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8373" descr=""/>
          <p:cNvPicPr/>
          <p:nvPr/>
        </p:nvPicPr>
        <p:blipFill>
          <a:blip r:embed="rId1"/>
          <a:stretch/>
        </p:blipFill>
        <p:spPr>
          <a:xfrm>
            <a:off x="138240" y="2185920"/>
            <a:ext cx="8867520" cy="24861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468360" y="3808440"/>
            <a:ext cx="324000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395280" y="4211640"/>
            <a:ext cx="48974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58:38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